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F78-8D68-4A56-A137-46537393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4495-8FBC-4F4D-ABD7-0E7EE1F3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6E06F-668F-4ADF-8CA3-7A55F92D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81DCB-5698-4D43-B383-362B430E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33D07-2EB3-4F39-BCC0-FA12C9B0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A99EF-8A56-4C54-B507-A667F4F6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DF534-DFE9-494C-893E-E40C4F2F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8DB81-D83A-425F-A118-EEE56CE5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AB4F1-1C12-49E1-9997-431A2B3B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FB6B2-5A3E-4250-A9FA-749993DA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DE58C-04FC-4B3E-B064-60081B9B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EA5E67-F667-42B8-811A-246FE7D7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B4F5-D2B3-4545-BF0C-8DCF6FA5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74D752-DB44-49FA-929A-228F435D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5C7D3B-AD84-4D26-A065-9F43E79B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13F2BA-D7FB-456C-ADFB-C6E4A4F9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94105D-839D-4303-89B7-ED519EDD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2A5771-0DC9-4843-9C84-A1894C88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EB67A2-EE0A-411D-A763-F7DA74E1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237CBA-7611-4DB7-971D-6C66253B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C9E28C-9FD0-40A5-AEFE-78F4DF6D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D964AC-DC1E-43D2-8412-1A54AD63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8526DF-E0AC-4577-8E0A-57FF331F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6083-C62A-46A3-8D2E-414DFE63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9BE942-36E4-49A8-A95A-8208105A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E55096-29AC-4738-8928-020E9C77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91A7F8-F4B1-4738-BFC8-D22BA466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9C2445-3742-4416-919B-BE014E6C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49EC11-E2C7-47DE-AFAE-5F471DEB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52EF70-8838-4559-B3FC-00ECBE4E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E8BDBB-2E9F-49B9-A592-80579B82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45AE29-8E8F-48E0-8407-2ABB6E17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BC6C54-DCC8-46F4-964D-2CC09FD4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EFEB90-1FBD-4E2F-A006-01BB16CE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8133-4537-4A11-A57B-8ADCB100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33C1C7-0978-419C-8911-19344C9E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8581D1-D986-4DBB-8C4D-C2C46680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2B3DDA-60B6-4BD6-8C5D-C5EA3F3E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BE46-491C-447A-8ED4-ABC851A1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69D9-F801-479B-A371-5E8D3DEA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3EA3-E15A-4860-8A47-6E42F88C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539A-6BCF-4497-BE3B-4A2CB0FC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7BE6-F10E-4B34-82E1-DB13629B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07E0-7BD6-4228-9009-940B8B34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D5C4-4058-44B1-94F7-7F2B8333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138F-8D3A-4CF1-874D-2FF52A1B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8F24-B16E-44E2-A740-11B3F743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3094-3CB1-47A2-BBF7-A533CB8F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7BD7-A2C4-465C-8DB2-DEF98920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47D7-375F-4C5F-8360-5E6850B6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79E3A-BD18-46D5-9A84-A8DA07C0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6A12D-0534-4DF4-9AAD-3DAD415D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974AE-0473-47F2-9CB2-58CABAC6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FC97D-B9BD-4D56-81DE-FBB0F9CE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3680E-EE24-46E1-8B9C-10DF2A59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C61B-9B21-481F-A4C6-50E5F5F4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AE1A1-22C8-4A74-BB03-515C79FA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CD779-7742-4E62-B0FB-4AB0F5D9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1F631-1513-451B-A129-B04B3B58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027A8-65BF-43D3-BFF0-46761B14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4DF96-59EB-4F11-A31E-452CA125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B1C4B-5C33-44E9-BC7A-E114F8B5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73564-AFDF-4FF0-9E01-BDEBC863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2E8255-23E2-40FA-A0BE-05260E67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2AFE01-790F-43F1-911C-253E321E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A053DA-93B0-41F6-A8A3-1482BD26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5A29-AFE3-423F-8307-FF8E305B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EFB60C-B323-4C84-8C3E-28C539F6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8E5221-73A1-4331-865D-80E7ECB9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A68DCD-AB02-425D-8F2A-634A8BEC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41BD7A-250A-4143-8D88-78647466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0AA83E-770B-4E73-A1CE-8303237B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F222FF-F4AB-44B9-8ADF-98462CA2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B1A89A-68E1-42F0-8E74-CF12CD29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1F1779-DE81-4B89-9016-F888AD9B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2A884C-B3A6-44E4-A899-9C528D9E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27B4D-CC89-4778-AE6C-19D7CD99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84F5-6A0B-4005-98BA-52BA0ADD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DB6F0-868E-4547-B66B-41C78DD7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11BC5-0F90-4F63-B205-D4C88385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DEAAD-355F-4904-8AF5-CEA75B25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628CC-77A4-4A41-B04B-BFA34C87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C7421-39D9-4973-AB48-E7286E1B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E7DBE-03E8-4CCE-82BB-7690A039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67AA8-05FE-4165-98BE-D2864D0A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05215-21A4-4656-88C2-52E9B95E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DD6BF-8A55-4DA2-B3C9-2255AF1C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21B84-9E13-4AD3-AF5A-07F1FAB2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CB79-FE15-4101-9073-E7CC0B50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025C0-0E7B-4595-AC4C-BBC3DAFB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DEBA09-5713-4DE5-9E7F-370B1CF3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1284A-8DEE-49A2-A1DD-39688743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1CE2A6-8DDB-4884-9F47-9B56A3D2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AF9D95-9B46-4A4C-B755-67A39632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83092B-B839-4A89-9070-8182A4C4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2F6F06-F525-4D13-8670-57EA52D4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28262F-B8D6-43BC-9526-37BBA318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D008CC-1D41-4F7F-8127-35540707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46515E-F176-4D42-977C-448A74C0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D7C-B81C-40AB-A40D-9CF84B80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6BFE2B-D8B7-4001-B43C-6A8FB773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FAB80F-A2AA-4461-8A6A-41598F7C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BB5ED2-AC26-454E-9E37-63AA7584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BCBE3-FDD3-45D0-83FC-5C567967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7CFF6-D306-4B63-8DC3-9B3441BB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623A2-A45C-46DE-AB24-6B5A6FB1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E8F46-2ECC-4CAF-9DAF-5CAA26CF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DDEBC-6172-4104-9EB4-54C19E0C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50353-31DB-450E-969B-6BD8FE9A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17BF0-E14E-4584-A84C-1E1BAE7E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9595-D1F9-4530-8172-E259DB48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81ADF-AFE3-4C0E-9468-4F5F4455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9CFEA-13C7-489C-9341-9E4CE8BD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02F23-4761-4C41-9AD7-846D034F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F299A-3D89-46B9-8E4C-9C73B4B2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E5F10-A2C0-45DF-8C73-32456DFA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296D8-1D3B-4631-B7F7-BC02521B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4E936-6060-435A-AA75-2BD44747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92F29-090F-4363-86D8-8F7F0048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C0A6C-13F0-402E-8176-565790E7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007CC-0795-4582-9B1E-9E8984A5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AD05-E0E5-4412-9215-8CF0D988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0CB29-1407-4C8A-B78D-DA3D91D0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CD4A5-D140-474B-BB8F-89AFE261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9C30E-4024-40FF-B75C-D3783B9B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6C7F2-55C7-41D9-B28E-51CCE03E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91AF2-8483-4DD7-A32C-417CFE3C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79BD2-6D55-40EB-9880-F6F590F5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50118-0C34-4DEC-814B-B6772F06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8A14A-7A3E-4D1F-AA36-EFC938B6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C0B09-03EA-42CB-831F-DB0171F3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DFA80-AD22-4573-9E1C-5C19CF88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B83B-D4D9-43B9-B1E2-5C812D88E74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sldNum" idx="29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ABC7-CD4D-47D0-AC8B-55234013527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ftr" idx="30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32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D5D9-FCC0-4484-B908-748A1C3C54D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ftr" idx="33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CEA0-CBD9-4529-A37E-F0BB7E89B5C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90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6781-AC26-4850-8202-2FBA4C60BB0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13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1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99AC-BB5A-4DB7-B2E9-A93C5D9766A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2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0E1F-0EAF-4591-84C7-20EE025824B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7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0A26-30E2-47B8-B2F8-01C4838B7C3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8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5111-301B-4529-8889-AFBC2F8F821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BE8D-B9B9-4C43-A916-676DC93DEF2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5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9110-BFF4-465A-9CB1-420DDF86F90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/>
          <p:cNvSpPr/>
          <p:nvPr/>
        </p:nvSpPr>
        <p:spPr>
          <a:xfrm>
            <a:off x="826920" y="692280"/>
            <a:ext cx="7775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ужество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то это такое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611280" y="3429000"/>
            <a:ext cx="763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ль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ать определение понятию «мужество»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питывать патриотизм, любовь к Родине и людям ее охраняющим не только в военное, но и мирное врем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4" descr="16"/>
          <p:cNvPicPr/>
          <p:nvPr/>
        </p:nvPicPr>
        <p:blipFill>
          <a:blip r:embed="rId1"/>
          <a:stretch/>
        </p:blipFill>
        <p:spPr>
          <a:xfrm>
            <a:off x="108000" y="765000"/>
            <a:ext cx="3889440" cy="2918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5" descr="17"/>
          <p:cNvPicPr/>
          <p:nvPr/>
        </p:nvPicPr>
        <p:blipFill>
          <a:blip r:embed="rId2"/>
          <a:stretch/>
        </p:blipFill>
        <p:spPr>
          <a:xfrm>
            <a:off x="4140360" y="3068640"/>
            <a:ext cx="460836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4"/>
          <p:cNvSpPr/>
          <p:nvPr/>
        </p:nvSpPr>
        <p:spPr>
          <a:xfrm>
            <a:off x="395280" y="10746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дведем итог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1332000" y="1773360"/>
            <a:ext cx="7200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лавный герой русских былин -Богатыр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ые известные имена былинных богатырей - Илья Муромец, Алеша Попович, Добрыня Никити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аринное название русского войска – рат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лавное сражение Отечественной войны 1812 года - Бородинское сраж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ая великая из войн – Великая Отечествен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ая доблестная армия - Российск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кон о праздновании Дня Защитника Отечества был принят в1995 го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ые мужественные люди – РУССК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4"/>
          <p:cNvSpPr/>
          <p:nvPr/>
        </p:nvSpPr>
        <p:spPr>
          <a:xfrm>
            <a:off x="3062880" y="691560"/>
            <a:ext cx="38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что такое мужество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324000" y="2060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Это храбрость, присутствие духа в опасности. (Толковый словарь Русского языка С.И. Ожегов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468360" y="357336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рабрость – мужество и решительность в поступках, отсутствие страза пред опаснлсть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4"/>
          <p:cNvSpPr/>
          <p:nvPr/>
        </p:nvSpPr>
        <p:spPr>
          <a:xfrm>
            <a:off x="1332000" y="333360"/>
            <a:ext cx="63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ужество в наше время, в мирное время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3" name="Picture 5" descr="Забег мужество"/>
          <p:cNvPicPr/>
          <p:nvPr/>
        </p:nvPicPr>
        <p:blipFill>
          <a:blip r:embed="rId1"/>
          <a:stretch/>
        </p:blipFill>
        <p:spPr>
          <a:xfrm>
            <a:off x="755640" y="2637000"/>
            <a:ext cx="2400480" cy="352728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6"/>
          <p:cNvSpPr/>
          <p:nvPr/>
        </p:nvSpPr>
        <p:spPr>
          <a:xfrm>
            <a:off x="755640" y="6093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мороз пробежать 30 км…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5" name="Picture 7" descr="мужество беженцев"/>
          <p:cNvPicPr/>
          <p:nvPr/>
        </p:nvPicPr>
        <p:blipFill>
          <a:blip r:embed="rId2"/>
          <a:stretch/>
        </p:blipFill>
        <p:spPr>
          <a:xfrm>
            <a:off x="4716360" y="3573360"/>
            <a:ext cx="3506760" cy="233856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8"/>
          <p:cNvSpPr/>
          <p:nvPr/>
        </p:nvSpPr>
        <p:spPr>
          <a:xfrm>
            <a:off x="4716360" y="6021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быть беженцем… бороться за свое счастье и право на жизн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808200" y="1866960"/>
            <a:ext cx="74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о быть мужественным, чтобы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при тушении пожаров"/>
          <p:cNvPicPr/>
          <p:nvPr/>
        </p:nvPicPr>
        <p:blipFill>
          <a:blip r:embed="rId1"/>
          <a:stretch/>
        </p:blipFill>
        <p:spPr>
          <a:xfrm>
            <a:off x="250920" y="333360"/>
            <a:ext cx="4465440" cy="33559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" descr="42"/>
          <p:cNvPicPr/>
          <p:nvPr/>
        </p:nvPicPr>
        <p:blipFill>
          <a:blip r:embed="rId2"/>
          <a:stretch/>
        </p:blipFill>
        <p:spPr>
          <a:xfrm>
            <a:off x="5087880" y="2421000"/>
            <a:ext cx="3667320" cy="429264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7"/>
          <p:cNvSpPr/>
          <p:nvPr/>
        </p:nvSpPr>
        <p:spPr>
          <a:xfrm>
            <a:off x="395280" y="42210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асать люде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5435640" y="148428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первые добиваться успе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715644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5"/>
          <p:cNvSpPr/>
          <p:nvPr/>
        </p:nvSpPr>
        <p:spPr>
          <a:xfrm>
            <a:off x="179280" y="981000"/>
            <a:ext cx="896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</a:rPr>
              <a:t>Много разных дел и поступков можно назвать мужественными!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6"/>
          <p:cNvSpPr/>
          <p:nvPr/>
        </p:nvSpPr>
        <p:spPr>
          <a:xfrm>
            <a:off x="1979640" y="1916280"/>
            <a:ext cx="525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ы знаем, что ныне лежит на весах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что совершается нын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ас мужества пробил на наших часах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мужество нас не покинет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4" descr="5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4"/>
          <p:cNvSpPr/>
          <p:nvPr/>
        </p:nvSpPr>
        <p:spPr>
          <a:xfrm>
            <a:off x="536760" y="596880"/>
            <a:ext cx="855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е может родная земля! Может накормить теплым и вкусным хлебом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поить родниковой водой, восхитить своей красотой. И только защитит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ма себя она не может… Поэтому защита Отечества и родной земли – дол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х, кто ест ее хлеб, пьет ее воду, любуется ее красот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протяжении многих веков не раз приходилось русским людям отстаива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ободу и независимость своей Роди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814680" y="2708280"/>
            <a:ext cx="799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род помнит своих легендарных героев-стражей: Илью Муромц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брыню Никитича, Алешу Попович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395280" y="3692520"/>
            <a:ext cx="10974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веках осталась и по сей день живет добрая память о русском воин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к о самом мужественном бесстрашном, честном, преданном Отечеству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верном в дружбе. О русском князе Игоре Святославовиче и храбр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инов его дружины сохранено  и рассказано в русском эпосе “Слово 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лку Игореве”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684360" y="537372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вновь в 1830 году войско великого князя Дмитрия Донского разбило татаро-монгольские полчища на Куликовом пол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3"/>
          <p:cNvPicPr/>
          <p:nvPr/>
        </p:nvPicPr>
        <p:blipFill>
          <a:blip r:embed="rId1"/>
          <a:stretch/>
        </p:blipFill>
        <p:spPr>
          <a:xfrm>
            <a:off x="755640" y="476280"/>
            <a:ext cx="8028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5" descr="7"/>
          <p:cNvPicPr/>
          <p:nvPr/>
        </p:nvPicPr>
        <p:blipFill>
          <a:blip r:embed="rId1"/>
          <a:stretch/>
        </p:blipFill>
        <p:spPr>
          <a:xfrm>
            <a:off x="468360" y="128520"/>
            <a:ext cx="842472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7" descr="11"/>
          <p:cNvPicPr/>
          <p:nvPr/>
        </p:nvPicPr>
        <p:blipFill>
          <a:blip r:embed="rId1"/>
          <a:stretch/>
        </p:blipFill>
        <p:spPr>
          <a:xfrm>
            <a:off x="900000" y="2276640"/>
            <a:ext cx="6836040" cy="437508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4"/>
          <p:cNvSpPr/>
          <p:nvPr/>
        </p:nvSpPr>
        <p:spPr>
          <a:xfrm>
            <a:off x="395280" y="54936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 подвиге солдат и русского дворянства во время Отечественной войны 1812 года рассказал великий русский писатель Лев Толстой в романе “Война и мир”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468360" y="1773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о не долго отдыхали от ратных дел русские солдат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971640" y="2421000"/>
            <a:ext cx="525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Сорок первый! Июнь.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Год и месяц борьбы всенародной.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Даже пылью времен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Затянуть эту дату нельзя.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Поднималсь страна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И на фронт уходила поротно,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Кумачевые звезды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На полотнах знамен уно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4" descr="13"/>
          <p:cNvPicPr/>
          <p:nvPr/>
        </p:nvPicPr>
        <p:blipFill>
          <a:blip r:embed="rId1"/>
          <a:stretch/>
        </p:blipFill>
        <p:spPr>
          <a:xfrm>
            <a:off x="395280" y="476280"/>
            <a:ext cx="4321080" cy="26748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5" descr="14"/>
          <p:cNvPicPr/>
          <p:nvPr/>
        </p:nvPicPr>
        <p:blipFill>
          <a:blip r:embed="rId2"/>
          <a:stretch/>
        </p:blipFill>
        <p:spPr>
          <a:xfrm>
            <a:off x="4859280" y="3284640"/>
            <a:ext cx="4103640" cy="30636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15"/>
          <p:cNvPicPr/>
          <p:nvPr/>
        </p:nvPicPr>
        <p:blipFill>
          <a:blip r:embed="rId3"/>
          <a:stretch/>
        </p:blipFill>
        <p:spPr>
          <a:xfrm>
            <a:off x="324000" y="3357720"/>
            <a:ext cx="4392360" cy="28112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7" descr="9"/>
          <p:cNvPicPr/>
          <p:nvPr/>
        </p:nvPicPr>
        <p:blipFill>
          <a:blip r:embed="rId4"/>
          <a:stretch/>
        </p:blipFill>
        <p:spPr>
          <a:xfrm>
            <a:off x="4788000" y="476280"/>
            <a:ext cx="4356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6" descr="Br_047"/>
          <p:cNvPicPr/>
          <p:nvPr/>
        </p:nvPicPr>
        <p:blipFill>
          <a:blip r:embed="rId1"/>
          <a:stretch/>
        </p:blipFill>
        <p:spPr>
          <a:xfrm>
            <a:off x="1908000" y="-414360"/>
            <a:ext cx="5180040" cy="727236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4"/>
          <p:cNvSpPr/>
          <p:nvPr/>
        </p:nvSpPr>
        <p:spPr>
          <a:xfrm>
            <a:off x="684360" y="333360"/>
            <a:ext cx="7559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27 000 000 -  погибших на две с половиной тысячи километр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это 10 800 убитых на километр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22 человека на каждые два метра зем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17 000 000 погибших за 14018  дн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это 19 000 ежедневно, 800 человек в час, 30  человек каждую минуту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27 000 000 погибших в соотношении ко всему населению тех лет. Это значит: каждый шестой житель нашей страны погиб во время вой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олдаты сражались во имя мира и мечтали о будущем в передышках между боями, в тесных землянках и холодных окопах. Они верили, что мир, спасенный от фашизма, будет прекрасен. И эта вера давала им сил, давала веру, надежду. Делала их мужественне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900000" y="5300640"/>
            <a:ext cx="712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Закончилась Великая Отечественная война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Но войны не закончилис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4"/>
          <p:cNvSpPr/>
          <p:nvPr/>
        </p:nvSpPr>
        <p:spPr>
          <a:xfrm>
            <a:off x="539640" y="476280"/>
            <a:ext cx="8353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сять страшных лет продолжалась война в Афганистане. Официально это называлось “выполнение интернационального долга”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е мы знаем, сколько наших ребят полегло на афганской земле. Они свой долг выполнили с честью, а вот выполнили ли долг перед ними те, кто посылал их на эту войну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кончилась война в Афганистане, но вновь не спят матери, провожая своих сыновей на службу в армию. Все новые и новые “горячие точки” вспыхивают на карте нашей страны, и среди них ставшее для многих страшным слово “Чечня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оссийские солдаты, вернувшиеся с чеченской войны, принесли с собой как бы обновленную любовь к Родине. Они в какой-то мере вернули нам высокое понятие патриотизма, мужества, воинского долг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7:29:57Z</dcterms:created>
  <dc:creator>SeryjVolhv</dc:creator>
  <dc:description/>
  <dc:language>en-US</dc:language>
  <cp:lastModifiedBy>Алия</cp:lastModifiedBy>
  <dcterms:modified xsi:type="dcterms:W3CDTF">2020-03-31T17:34:39Z</dcterms:modified>
  <cp:revision>9</cp:revision>
  <dc:subject/>
  <dc:title>Слайд 1</dc:title>
</cp:coreProperties>
</file>